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BBBCCD-0FD2-4B6D-A8AE-25D572E7858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9ED40F-08A3-47B4-934A-9B401AC9A99E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3BF008-6E44-4A5F-B7BC-FA76EF61EDF4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73533B-AF57-4933-92A7-377E948ECE06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F17703-BABE-49E0-8CFA-537862FAFFD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F152C9-3D72-4AA6-BE0A-2B9CCAA7DC44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C909C2-4557-4C9B-91CB-B0DD9EA180B7}" type="slidenum">
              <a:rPr b="0" lang="zh-CN" sz="1300" spc="-1" strike="noStrike">
                <a:solidFill>
                  <a:srgbClr val="000000"/>
                </a:solidFill>
                <a:latin typeface="Lucida Sans"/>
                <a:ea typeface="SimSu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08000" y="765000"/>
            <a:ext cx="5089680" cy="3818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36600"/>
            <a:ext cx="520704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966-EB31-4A5D-A9EE-6647E824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9A1-18C3-4A62-96BB-F56B029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4DD-4D86-4ADD-8E20-A318FA3D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D91-DAA6-4312-8AE4-26088A8A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A662-67C4-491D-AA0A-CC715620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DA08-DE3D-48A4-B024-313D341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DF1A-930D-4320-BF0D-1698D2E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584-D813-436B-83A0-A9B7112B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7975-AB02-4F3B-B35A-7056D5C2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917B-23DF-4DAD-8B34-D36583D1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DB4F-1B2C-4275-8A80-25F8657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FEA-4E02-4C09-9AC7-5DE43BBD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51A1-EB25-4E33-A821-73E27A6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B74B-E6C3-4435-ACF8-9647A845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2829-8089-47EB-83A4-2CA5A46C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4C71-80E8-4D64-9C21-A9144E14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9B4A-D8B0-4308-ABF8-23B255D8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FD1-A29E-4722-946E-183DD46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16C-4462-4B01-B358-E41CC99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751-B3F1-4851-B414-638CBEDA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6A3-4A6F-47B5-B981-5F9FE13C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1E9-6082-4209-8412-13B1641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E3C-57F8-4730-B551-194B91E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A2C-F348-4D7D-8A2B-601BF345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D94E-BA05-4BF6-81D3-0BD03FC91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AD8-D32A-4D9A-AE35-BD6B8AC2C37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Exact retriev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Find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628640"/>
            <a:ext cx="86104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the “pivot”: The first pointer in this order for which the sum of upper-bounds of the terms is at least equal to the threshol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7C04-2D6B-47A8-90AA-BCF5EA808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174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9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180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2" name="Right Brace 33"/>
          <p:cNvSpPr/>
          <p:nvPr/>
        </p:nvSpPr>
        <p:spPr>
          <a:xfrm>
            <a:off x="8664480" y="3602160"/>
            <a:ext cx="355680" cy="1904760"/>
          </a:xfrm>
          <a:custGeom>
            <a:avLst/>
            <a:gdLst>
              <a:gd name="textAreaLeft" fmla="*/ 0 w 355680"/>
              <a:gd name="textAreaRight" fmla="*/ 128520 w 355680"/>
              <a:gd name="textAreaTop" fmla="*/ 9000 h 1904760"/>
              <a:gd name="textAreaBottom" fmla="*/ 18957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6"/>
                </a:cubicBezTo>
                <a:lnTo>
                  <a:pt x="10800" y="10464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6"/>
                </a:cubicBezTo>
                <a:lnTo>
                  <a:pt x="10800" y="21264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crement to Pivo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557360"/>
            <a:ext cx="861048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crement all previous pointers until they reach the pivot ID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documents that have been skipped on the way are certainly not part of the resul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912000" y="638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D575-BAE4-4920-9B73-CFBEF6978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959120" y="338616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959120" y="4229280"/>
            <a:ext cx="3962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959120" y="5138640"/>
            <a:ext cx="510516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959120" y="5900760"/>
            <a:ext cx="510516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640080" y="33098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1211400" y="4224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1383480" y="506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189080" y="581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2492280" y="338616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Lightning Bolt 13"/>
          <p:cNvSpPr/>
          <p:nvPr/>
        </p:nvSpPr>
        <p:spPr>
          <a:xfrm>
            <a:off x="3102120" y="38433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3102120" y="42242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Lightning Bolt 15"/>
          <p:cNvSpPr/>
          <p:nvPr/>
        </p:nvSpPr>
        <p:spPr>
          <a:xfrm>
            <a:off x="4930920" y="475776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4930920" y="513864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Lightning Bolt 17"/>
          <p:cNvSpPr/>
          <p:nvPr/>
        </p:nvSpPr>
        <p:spPr>
          <a:xfrm>
            <a:off x="6073920" y="551988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6073920" y="590076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1959120" y="338616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1959120" y="422424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1959120" y="513864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959120" y="590076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Lightning Bolt 23"/>
          <p:cNvSpPr/>
          <p:nvPr/>
        </p:nvSpPr>
        <p:spPr>
          <a:xfrm>
            <a:off x="2492280" y="3019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7171560" y="3068640"/>
            <a:ext cx="1672560" cy="3308040"/>
            <a:chOff x="7171560" y="3068640"/>
            <a:chExt cx="1672560" cy="3308040"/>
          </a:xfrm>
        </p:grpSpPr>
        <p:sp>
          <p:nvSpPr>
            <p:cNvPr id="207" name="TextBox 12"/>
            <p:cNvSpPr/>
            <p:nvPr/>
          </p:nvSpPr>
          <p:spPr>
            <a:xfrm>
              <a:off x="7369200" y="35258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Box 13"/>
            <p:cNvSpPr/>
            <p:nvPr/>
          </p:nvSpPr>
          <p:spPr>
            <a:xfrm>
              <a:off x="7369200" y="4361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369200" y="52786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Box 15"/>
            <p:cNvSpPr/>
            <p:nvPr/>
          </p:nvSpPr>
          <p:spPr>
            <a:xfrm>
              <a:off x="7369200" y="60404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Box 28"/>
            <p:cNvSpPr/>
            <p:nvPr/>
          </p:nvSpPr>
          <p:spPr>
            <a:xfrm>
              <a:off x="7171560" y="306864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4930920" y="3127320"/>
            <a:ext cx="865080" cy="3613680"/>
            <a:chOff x="4930920" y="3127320"/>
            <a:chExt cx="865080" cy="3613680"/>
          </a:xfrm>
        </p:grpSpPr>
        <p:sp>
          <p:nvSpPr>
            <p:cNvPr id="213" name="Rectangle 31"/>
            <p:cNvSpPr/>
            <p:nvPr/>
          </p:nvSpPr>
          <p:spPr>
            <a:xfrm>
              <a:off x="4930920" y="312732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4930920" y="64036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5" name="Right Brace 33"/>
          <p:cNvSpPr/>
          <p:nvPr/>
        </p:nvSpPr>
        <p:spPr>
          <a:xfrm>
            <a:off x="8664480" y="360216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3960 h 1904760"/>
              <a:gd name="textAreaBottom" fmla="*/ 1900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e4a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Prune docs that have no hop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28600" y="1773360"/>
            <a:ext cx="8610480" cy="43812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2057400" y="3124080"/>
            <a:ext cx="365760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057400" y="396720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057400" y="487692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057400" y="56386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73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310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148212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1288080" y="5557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ghtning Bolt 16"/>
          <p:cNvSpPr/>
          <p:nvPr/>
        </p:nvSpPr>
        <p:spPr>
          <a:xfrm>
            <a:off x="2590920" y="2743200"/>
            <a:ext cx="228600" cy="38088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2590920" y="312408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ghtning Bolt 18"/>
          <p:cNvSpPr/>
          <p:nvPr/>
        </p:nvSpPr>
        <p:spPr>
          <a:xfrm>
            <a:off x="3200400" y="3581280"/>
            <a:ext cx="228600" cy="381240"/>
          </a:xfrm>
          <a:prstGeom prst="lightningBolt">
            <a:avLst/>
          </a:prstGeom>
          <a:solidFill>
            <a:srgbClr val="f0eeeb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3200400" y="39625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Lightning Bolt 20"/>
          <p:cNvSpPr/>
          <p:nvPr/>
        </p:nvSpPr>
        <p:spPr>
          <a:xfrm>
            <a:off x="5029200" y="449568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5029200" y="487692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ghtning Bolt 22"/>
          <p:cNvSpPr/>
          <p:nvPr/>
        </p:nvSpPr>
        <p:spPr>
          <a:xfrm>
            <a:off x="6172200" y="5257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6172200" y="5638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2057400" y="312408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2057400" y="396252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2057400" y="487692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057400" y="5638680"/>
            <a:ext cx="4114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oup 31"/>
          <p:cNvGrpSpPr/>
          <p:nvPr/>
        </p:nvGrpSpPr>
        <p:grpSpPr>
          <a:xfrm>
            <a:off x="7270200" y="2666880"/>
            <a:ext cx="1672560" cy="3308400"/>
            <a:chOff x="7270200" y="2666880"/>
            <a:chExt cx="1672560" cy="3308400"/>
          </a:xfrm>
        </p:grpSpPr>
        <p:sp>
          <p:nvSpPr>
            <p:cNvPr id="239" name="TextBox 12"/>
            <p:cNvSpPr/>
            <p:nvPr/>
          </p:nvSpPr>
          <p:spPr>
            <a:xfrm>
              <a:off x="7467840" y="31240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catcher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2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Box 13"/>
            <p:cNvSpPr/>
            <p:nvPr/>
          </p:nvSpPr>
          <p:spPr>
            <a:xfrm>
              <a:off x="7467840" y="395928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ry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1.8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TextBox 14"/>
            <p:cNvSpPr/>
            <p:nvPr/>
          </p:nvSpPr>
          <p:spPr>
            <a:xfrm>
              <a:off x="7467840" y="487692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in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3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TextBox 15"/>
            <p:cNvSpPr/>
            <p:nvPr/>
          </p:nvSpPr>
          <p:spPr>
            <a:xfrm>
              <a:off x="7467840" y="5639040"/>
              <a:ext cx="134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UB</a:t>
              </a:r>
              <a:r>
                <a:rPr b="1" i="1" lang="en-US" sz="1400" spc="-1" strike="noStrike" baseline="-25000">
                  <a:solidFill>
                    <a:srgbClr val="3399ff"/>
                  </a:solidFill>
                  <a:latin typeface="Arial"/>
                </a:rPr>
                <a:t>the</a:t>
              </a:r>
              <a:r>
                <a:rPr b="1" i="1" lang="en-US" sz="1400" spc="-1" strike="noStrike">
                  <a:solidFill>
                    <a:srgbClr val="3399ff"/>
                  </a:solidFill>
                  <a:latin typeface="Arial"/>
                </a:rPr>
                <a:t> = 4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Box 28"/>
            <p:cNvSpPr/>
            <p:nvPr/>
          </p:nvSpPr>
          <p:spPr>
            <a:xfrm>
              <a:off x="7270200" y="26668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40508"/>
                  </a:solidFill>
                  <a:latin typeface="Arial"/>
                </a:rPr>
                <a:t>Threshold = 6.8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4" name="Group 32"/>
          <p:cNvGrpSpPr/>
          <p:nvPr/>
        </p:nvGrpSpPr>
        <p:grpSpPr>
          <a:xfrm>
            <a:off x="5029200" y="2971800"/>
            <a:ext cx="838080" cy="3613680"/>
            <a:chOff x="5029200" y="2971800"/>
            <a:chExt cx="838080" cy="3613680"/>
          </a:xfrm>
        </p:grpSpPr>
        <p:sp>
          <p:nvSpPr>
            <p:cNvPr id="245" name="Rectangle 29"/>
            <p:cNvSpPr/>
            <p:nvPr/>
          </p:nvSpPr>
          <p:spPr>
            <a:xfrm>
              <a:off x="5029200" y="2971800"/>
              <a:ext cx="533520" cy="3276720"/>
            </a:xfrm>
            <a:prstGeom prst="rect">
              <a:avLst/>
            </a:prstGeom>
            <a:noFill/>
            <a:ln w="9360">
              <a:solidFill>
                <a:srgbClr val="406e84"/>
              </a:solidFill>
              <a:prstDash val="sysDash"/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Box 30"/>
            <p:cNvSpPr/>
            <p:nvPr/>
          </p:nvSpPr>
          <p:spPr>
            <a:xfrm>
              <a:off x="5029200" y="62481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 Narrow"/>
                </a:rPr>
                <a:t>Pivo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3124080" y="3124080"/>
            <a:ext cx="1905120" cy="1219320"/>
            <a:chOff x="3124080" y="3124080"/>
            <a:chExt cx="1905120" cy="1219320"/>
          </a:xfrm>
        </p:grpSpPr>
        <p:sp>
          <p:nvSpPr>
            <p:cNvPr id="248" name="Rectangle 33"/>
            <p:cNvSpPr/>
            <p:nvPr/>
          </p:nvSpPr>
          <p:spPr>
            <a:xfrm>
              <a:off x="3124080" y="3124080"/>
              <a:ext cx="190512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Rectangle 34"/>
            <p:cNvSpPr/>
            <p:nvPr/>
          </p:nvSpPr>
          <p:spPr>
            <a:xfrm>
              <a:off x="3733560" y="3962520"/>
              <a:ext cx="1295640" cy="380880"/>
            </a:xfrm>
            <a:prstGeom prst="rect">
              <a:avLst/>
            </a:prstGeom>
            <a:solidFill>
              <a:srgbClr val="d0ebe4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0"/>
                  </a:solidFill>
                  <a:latin typeface="Lucida Sans"/>
                </a:rPr>
                <a:t>Hopeless do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50" name="Group 43"/>
          <p:cNvGrpSpPr/>
          <p:nvPr/>
        </p:nvGrpSpPr>
        <p:grpSpPr>
          <a:xfrm>
            <a:off x="2971800" y="2743200"/>
            <a:ext cx="2286000" cy="1219320"/>
            <a:chOff x="2971800" y="2743200"/>
            <a:chExt cx="2286000" cy="1219320"/>
          </a:xfrm>
        </p:grpSpPr>
        <p:sp>
          <p:nvSpPr>
            <p:cNvPr id="251" name="Lightning Bolt 37"/>
            <p:cNvSpPr/>
            <p:nvPr/>
          </p:nvSpPr>
          <p:spPr>
            <a:xfrm>
              <a:off x="5029200" y="274320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2" name="Lightning Bolt 38"/>
            <p:cNvSpPr/>
            <p:nvPr/>
          </p:nvSpPr>
          <p:spPr>
            <a:xfrm>
              <a:off x="5029200" y="3581640"/>
              <a:ext cx="228600" cy="38088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406e8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53" name="Straight Arrow Connector 40"/>
            <p:cNvCxnSpPr/>
            <p:nvPr/>
          </p:nvCxnSpPr>
          <p:spPr>
            <a:xfrm>
              <a:off x="2971800" y="2895120"/>
              <a:ext cx="198216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  <p:cxnSp>
          <p:nvCxnSpPr>
            <p:cNvPr id="254" name="Straight Arrow Connector 41"/>
            <p:cNvCxnSpPr/>
            <p:nvPr/>
          </p:nvCxnSpPr>
          <p:spPr>
            <a:xfrm>
              <a:off x="3504960" y="3733560"/>
              <a:ext cx="1448640" cy="1080"/>
            </a:xfrm>
            <a:prstGeom prst="straightConnector1">
              <a:avLst/>
            </a:prstGeom>
            <a:ln w="25560">
              <a:solidFill>
                <a:srgbClr val="00e4a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552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mpute 589’s score if need b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589 is present in enough postings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soft AND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compute its full score – else move pointers right of 58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589 is inserted in the current top-K, update threshol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ivot again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ghtning Bolt 13"/>
          <p:cNvSpPr/>
          <p:nvPr/>
        </p:nvSpPr>
        <p:spPr>
          <a:xfrm>
            <a:off x="495288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2057400" y="3657600"/>
            <a:ext cx="2971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2057400" y="44956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Lightning Bolt 23"/>
          <p:cNvSpPr/>
          <p:nvPr/>
        </p:nvSpPr>
        <p:spPr>
          <a:xfrm>
            <a:off x="4952880" y="3276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50292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5029200" y="36576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WAND summ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28600" y="1988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tests, WAND leads to a 90+% reduction in score compu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tter gains on longer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ND gives us safe rank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sible to devise “careless” variants that are a bit faster but not saf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locked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7524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UB(t) is over the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full list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of 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229680" indent="-2296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To avoid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tion the list into bl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ore for each block b the maximum score UB_b(t) among the docIDs stored into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1" name="Immagine 5" descr=""/>
          <p:cNvPicPr/>
          <p:nvPr/>
        </p:nvPicPr>
        <p:blipFill>
          <a:blip r:embed="rId1"/>
          <a:srcRect l="53940" t="23752" r="14782" b="54202"/>
          <a:stretch/>
        </p:blipFill>
        <p:spPr>
          <a:xfrm>
            <a:off x="4643280" y="4005360"/>
            <a:ext cx="4483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The new algorithm: Block-Max WA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699920"/>
            <a:ext cx="85676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Algorithm (2-level check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 in classic WAND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p = pivoting docIDs via threshol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the max-heap, and let d be the docID in list(p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4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ove the pointers/blocks in lists 0..p-1to blocks that may contain d, so thier docID-ranges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Sum the </a:t>
            </a:r>
            <a:r>
              <a:rPr b="1" lang="it-IT" sz="2200" spc="-1" strike="noStrike">
                <a:solidFill>
                  <a:srgbClr val="000000"/>
                </a:solidFill>
                <a:latin typeface="Lucida Sans"/>
              </a:rPr>
              <a:t>UBs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of those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f the sum ≤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skip the leftmost right-end block; </a:t>
            </a:r>
            <a:r>
              <a:rPr b="1" lang="it-IT" sz="2200" spc="-1" strike="noStrike">
                <a:solidFill>
                  <a:srgbClr val="7030a0"/>
                </a:solidFill>
                <a:latin typeface="Lucida Sans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f score(d) ≤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move iterators to next docIDs &gt; 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sert d in the max-heap and re-evalua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320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E-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user feedback on relevance of docs in initial set of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8c1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issues a (short, simple)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marks some results as relevant or non-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computes a better representation of the information need based on feedba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 can go through one or more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iteration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Rocchio (SMART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d in practi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r  </a:t>
            </a: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=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D</a:t>
            </a:r>
            <a:r>
              <a:rPr b="1" i="1" lang="en-US" sz="28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nr</a:t>
            </a:r>
            <a:r>
              <a:rPr b="1" lang="en-US" sz="28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set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Lucida Sans"/>
                <a:ea typeface="SimSun"/>
              </a:rPr>
              <a:t>known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irrelevant doc vec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m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modified query vector;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 = original query vector; 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α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β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,</a:t>
            </a:r>
            <a:r>
              <a:rPr b="1" i="1" lang="el-GR" sz="2400" spc="-1" strike="noStrike">
                <a:solidFill>
                  <a:srgbClr val="c00000"/>
                </a:solidFill>
                <a:latin typeface="Lucida Sans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: weights (hand-chosen or set empiricall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New query moves toward relevant documents and away from irrelevant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7"/>
              <p:cNvSpPr txBox="1"/>
              <p:nvPr/>
            </p:nvSpPr>
            <p:spPr>
              <a:xfrm>
                <a:off x="1069920" y="215892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844640"/>
            <a:ext cx="86104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ven a query Q, find the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p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cs for Q, using some rank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plest Strategy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all documents in the intersec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ute scor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 all these documen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rt results by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Lucida San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: Proble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Users are often reluctant to provide explicit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t’s often harder to understand why a particular document was retrieved after applying relevance feedbac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re is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no clear evidenc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at relevance feedback i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est us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the user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 tim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seudo relevance feedbac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seudo-relevance feedback automates th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ua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art of true relevance feedback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Retrieve a list of hits for the user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s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Assume that the top k are relevan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Do relevance feedback (e.g., Rocch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rks very well on aver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can go horribly wrong for some querie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iterations can cause query drift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Query Expans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relevance feedbac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relevant/non-relevant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document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which is used to reweight terms in the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I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query expan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, users give additional input (good/bad search term) on </a:t>
            </a:r>
            <a:r>
              <a:rPr b="0" lang="en-US" sz="2600" spc="-1" strike="noStrike">
                <a:solidFill>
                  <a:srgbClr val="3333cc"/>
                </a:solidFill>
                <a:latin typeface="Lucida Sans"/>
                <a:ea typeface="SimSun"/>
              </a:rPr>
              <a:t>words or phra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How augment the user quer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Manual thesauru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SimSun"/>
              </a:rPr>
              <a:t>(costly to generat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E.g. MedLine: physician, syn: doc, doctor, M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Global Analysis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Lucida Sans"/>
                <a:ea typeface="SimSun"/>
              </a:rPr>
              <a:t>(static; all docs in collection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Automatically derived thesaur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(co-occurrence statistic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  <a:ea typeface="SimSun"/>
              </a:rPr>
              <a:t>Refinements based on query-log min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  <a:ea typeface="SimSun"/>
              </a:rPr>
              <a:t>Common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ocal Analysi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 (dynamic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Analysis of documents in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  <a:ea typeface="SimSu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9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ality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it good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uments/hou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Average document siz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fast does it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tency as a function of index siz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pressiveness of the query languag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asures for a search engi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ll of the preceding criteria ar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key measure: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user happines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less answers won’t make a user happ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er groups for testing !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General scenari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1476360" y="1700280"/>
            <a:ext cx="6858000" cy="3917160"/>
            <a:chOff x="1476360" y="1700280"/>
            <a:chExt cx="6858000" cy="3917160"/>
          </a:xfrm>
        </p:grpSpPr>
        <p:sp>
          <p:nvSpPr>
            <p:cNvPr id="312" name="Oval 4"/>
            <p:cNvSpPr/>
            <p:nvPr/>
          </p:nvSpPr>
          <p:spPr>
            <a:xfrm>
              <a:off x="2771640" y="1928880"/>
              <a:ext cx="517536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Oval 5"/>
            <p:cNvSpPr/>
            <p:nvPr/>
          </p:nvSpPr>
          <p:spPr>
            <a:xfrm rot="19926600">
              <a:off x="2009520" y="2843280"/>
              <a:ext cx="4495680" cy="18288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2772000" y="4443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5" name="Text Box 7"/>
            <p:cNvSpPr/>
            <p:nvPr/>
          </p:nvSpPr>
          <p:spPr>
            <a:xfrm>
              <a:off x="6200640" y="2386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Retrieve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1476360" y="1700280"/>
              <a:ext cx="6858000" cy="380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7" name="Text Box 9"/>
            <p:cNvSpPr/>
            <p:nvPr/>
          </p:nvSpPr>
          <p:spPr>
            <a:xfrm>
              <a:off x="1652040" y="17762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23640" y="155700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trieved that are relevant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junk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"/>
              </a:rPr>
              <a:t>Precision vs. Recall</a:t>
            </a:r>
            <a:endParaRPr b="0" lang="en-US" sz="3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2482920" y="3087720"/>
            <a:ext cx="51753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5"/>
          <p:cNvSpPr/>
          <p:nvPr/>
        </p:nvSpPr>
        <p:spPr>
          <a:xfrm rot="19926600">
            <a:off x="1720440" y="4002120"/>
            <a:ext cx="4495680" cy="18288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483280" y="5602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911920" y="3544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trie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187280" y="3003480"/>
            <a:ext cx="6858000" cy="381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362960" y="2935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464328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Line 11"/>
          <p:cNvSpPr/>
          <p:nvPr/>
        </p:nvSpPr>
        <p:spPr>
          <a:xfrm>
            <a:off x="4859280" y="365112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5076720" y="3651120"/>
            <a:ext cx="14472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Line 13"/>
          <p:cNvSpPr/>
          <p:nvPr/>
        </p:nvSpPr>
        <p:spPr>
          <a:xfrm>
            <a:off x="5292720" y="3579840"/>
            <a:ext cx="144360" cy="1297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5508720" y="3579840"/>
            <a:ext cx="142920" cy="11523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Line 15"/>
          <p:cNvSpPr/>
          <p:nvPr/>
        </p:nvSpPr>
        <p:spPr>
          <a:xfrm>
            <a:off x="5724360" y="3651120"/>
            <a:ext cx="71640" cy="86544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4356000" y="3795840"/>
            <a:ext cx="144720" cy="1079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Line 17"/>
          <p:cNvSpPr/>
          <p:nvPr/>
        </p:nvSpPr>
        <p:spPr>
          <a:xfrm>
            <a:off x="4067280" y="3867120"/>
            <a:ext cx="144360" cy="100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Line 18"/>
          <p:cNvSpPr/>
          <p:nvPr/>
        </p:nvSpPr>
        <p:spPr>
          <a:xfrm>
            <a:off x="3780000" y="4011480"/>
            <a:ext cx="71280" cy="7207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Line 19"/>
          <p:cNvSpPr/>
          <p:nvPr/>
        </p:nvSpPr>
        <p:spPr>
          <a:xfrm>
            <a:off x="3419640" y="4156200"/>
            <a:ext cx="72720" cy="503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3635280" y="4083120"/>
            <a:ext cx="0" cy="6490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132000" y="4300560"/>
            <a:ext cx="71640" cy="28728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324000" y="2146320"/>
            <a:ext cx="856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00000"/>
                </a:solidFill>
                <a:uFillTx/>
                <a:latin typeface="Lucida Sans"/>
              </a:rPr>
              <a:t>Recall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% docs relevant that are retrieve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[issue “info” found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compute th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trieved docs that are relevan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Recall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fraction of relevant docs that are retrie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ecision P = tp/(tp + fp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ctr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R = tp/(tp + fn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76360" y="2924280"/>
          <a:ext cx="6172200" cy="1536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lev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Lucida Sans"/>
                        </a:rPr>
                        <a:t>Not Retriev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fals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(true nega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49068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960" y="177336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computation is a large fraction of the CPU work on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enerally, we have a tight budget on latency (say, 100m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 can’t exhaustively score every document on every query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oal is to cut CPU usage for scoring, without compromising (too much) on the quality of 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sic idea: avoid scoring docs that won’t make it into the top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547640" y="2924280"/>
            <a:ext cx="6019920" cy="350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cision-Recall curv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asure Precision at various levels of Recal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5" name="AutoShape 5"/>
          <p:cNvCxnSpPr/>
          <p:nvPr/>
        </p:nvCxnSpPr>
        <p:spPr>
          <a:xfrm>
            <a:off x="3520800" y="322416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AutoShape 6"/>
          <p:cNvCxnSpPr/>
          <p:nvPr/>
        </p:nvCxnSpPr>
        <p:spPr>
          <a:xfrm>
            <a:off x="3521160" y="550980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Freeform 7"/>
          <p:cNvSpPr/>
          <p:nvPr/>
        </p:nvSpPr>
        <p:spPr>
          <a:xfrm>
            <a:off x="3749760" y="3605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870560" y="33764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4497480" y="551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4969800" y="4900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750840" y="3757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05540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5503320" y="5052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619280" y="2276640"/>
            <a:ext cx="6019920" cy="365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 common pictur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6" name="AutoShape 4"/>
          <p:cNvCxnSpPr/>
          <p:nvPr/>
        </p:nvCxnSpPr>
        <p:spPr>
          <a:xfrm>
            <a:off x="3447720" y="2657520"/>
            <a:ext cx="1080" cy="2286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7" name="AutoShape 5"/>
          <p:cNvCxnSpPr/>
          <p:nvPr/>
        </p:nvCxnSpPr>
        <p:spPr>
          <a:xfrm>
            <a:off x="3448080" y="4943160"/>
            <a:ext cx="27439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Freeform 6"/>
          <p:cNvSpPr/>
          <p:nvPr/>
        </p:nvSpPr>
        <p:spPr>
          <a:xfrm>
            <a:off x="3828960" y="3114720"/>
            <a:ext cx="1981440" cy="16765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1797840" y="319104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576680" y="5172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897080" y="4334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3754080" y="3114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4058640" y="35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430240" y="44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Freeform 13"/>
          <p:cNvSpPr/>
          <p:nvPr/>
        </p:nvSpPr>
        <p:spPr>
          <a:xfrm rot="20745600">
            <a:off x="3753000" y="3038040"/>
            <a:ext cx="1981080" cy="1676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248" h="1056">
                <a:moveTo>
                  <a:pt x="0" y="0"/>
                </a:moveTo>
                <a:cubicBezTo>
                  <a:pt x="24" y="100"/>
                  <a:pt x="48" y="200"/>
                  <a:pt x="144" y="336"/>
                </a:cubicBezTo>
                <a:cubicBezTo>
                  <a:pt x="240" y="472"/>
                  <a:pt x="392" y="696"/>
                  <a:pt x="576" y="816"/>
                </a:cubicBezTo>
                <a:cubicBezTo>
                  <a:pt x="760" y="936"/>
                  <a:pt x="1004" y="996"/>
                  <a:pt x="1248" y="1056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 measur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mbined measu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weighted harmonic mean)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eople usually use balanced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eas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.e.,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½ thus 1/F = ½ (1/P + 1/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2754360" y="2454120"/>
                <a:ext cx="34052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WAND techniq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sh to compute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the top K 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pruning metho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hich uses 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  <a:ea typeface="SimSun"/>
              </a:rPr>
              <a:t>max heap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SimSun"/>
              </a:rPr>
              <a:t>over the scores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there is a proof that thes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re indeed the exact top-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asic idea reminiscent 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branch and bou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maintain a running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core =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-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 highest score computed so f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prune away all docs whose scores are guaranteed to be below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ompute exact scores for only the un-prun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dex structure for W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5560" y="1773000"/>
            <a:ext cx="794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stings ordered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ume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special iterato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 the postings of the form “go to the first docID greater than X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skip poin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Using the Elias-Fano’s compressed lis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have a “pointer” at some docID in the postings of each query term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ch pointer moves only to the right, to larger doc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core Functio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773360"/>
            <a:ext cx="8610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assume that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t,d) = score of t in 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core of the document d is the sum of the scores of query terms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d) =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 + … + r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so, for each query term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, there is some upperbound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UB(t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such that for all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d,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(t,d) ≤ UB(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values are to be pre-computed and stor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reshol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keep inductively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uch that for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very document 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 within the top-</a:t>
            </a:r>
            <a:r>
              <a:rPr b="1" i="1" lang="en-US" sz="28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t holds tha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r(d) ≥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initialized to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raised when we fi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 satisfying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continue to be raised, whenever the “worst” of the currently found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as a score above the thresh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706400"/>
            <a:ext cx="86104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771-617D-4AEE-8E04-3D65ABB7A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57400" y="450072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057400" y="364968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60418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057400" y="524988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739440" y="4424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310400" y="364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1482120" y="5965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288080" y="5168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Lightning Bolt 13"/>
          <p:cNvSpPr/>
          <p:nvPr/>
        </p:nvSpPr>
        <p:spPr>
          <a:xfrm>
            <a:off x="3200400" y="31417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00400" y="36450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ghtning Bolt 15"/>
          <p:cNvSpPr/>
          <p:nvPr/>
        </p:nvSpPr>
        <p:spPr>
          <a:xfrm>
            <a:off x="5029200" y="5661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029200" y="60418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Lightning Bolt 17"/>
          <p:cNvSpPr/>
          <p:nvPr/>
        </p:nvSpPr>
        <p:spPr>
          <a:xfrm>
            <a:off x="6172200" y="48690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6172200" y="524988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2057400" y="3645000"/>
            <a:ext cx="1143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2057400" y="60418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2057400" y="524988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Lightning Bolt 23"/>
          <p:cNvSpPr/>
          <p:nvPr/>
        </p:nvSpPr>
        <p:spPr>
          <a:xfrm>
            <a:off x="2590920" y="413532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90920" y="4487760"/>
            <a:ext cx="533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057400" y="4487760"/>
            <a:ext cx="533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Sort Pointe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66680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rt the pointers to the inverted lists by increasing document i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xample Query: </a:t>
            </a:r>
            <a:r>
              <a:rPr b="0" i="1" lang="en-US" sz="2600" spc="-1" strike="noStrike">
                <a:solidFill>
                  <a:srgbClr val="333399"/>
                </a:solidFill>
                <a:latin typeface="Lucida Sans"/>
              </a:rPr>
              <a:t>catcher in the ry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01028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CC2-EAE9-4076-9E95-F88A0BE80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057400" y="3657600"/>
            <a:ext cx="365760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057400" y="4500720"/>
            <a:ext cx="3962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057400" y="5410080"/>
            <a:ext cx="5105520" cy="38124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057400" y="6172200"/>
            <a:ext cx="5105520" cy="380880"/>
          </a:xfrm>
          <a:prstGeom prst="rect">
            <a:avLst/>
          </a:prstGeom>
          <a:gradFill rotWithShape="0">
            <a:gsLst>
              <a:gs pos="0">
                <a:srgbClr val="afccdf"/>
              </a:gs>
              <a:gs pos="100000">
                <a:srgbClr val="39748f"/>
              </a:gs>
            </a:gsLst>
            <a:lin ang="5400000"/>
          </a:gra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739440" y="3581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atch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31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48212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1288080" y="6091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2590920" y="3657600"/>
            <a:ext cx="5331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Lightning Bolt 13"/>
          <p:cNvSpPr/>
          <p:nvPr/>
        </p:nvSpPr>
        <p:spPr>
          <a:xfrm>
            <a:off x="3200400" y="41148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200400" y="44956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0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Lightning Bolt 15"/>
          <p:cNvSpPr/>
          <p:nvPr/>
        </p:nvSpPr>
        <p:spPr>
          <a:xfrm>
            <a:off x="5029200" y="502920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5029200" y="5410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Lightning Bolt 17"/>
          <p:cNvSpPr/>
          <p:nvPr/>
        </p:nvSpPr>
        <p:spPr>
          <a:xfrm>
            <a:off x="6172200" y="5791320"/>
            <a:ext cx="228600" cy="38088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6172200" y="6172200"/>
            <a:ext cx="5335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76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2057400" y="3657600"/>
            <a:ext cx="533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2057400" y="4495680"/>
            <a:ext cx="1143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2057400" y="5410080"/>
            <a:ext cx="2971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2057400" y="617220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ghtning Bolt 23"/>
          <p:cNvSpPr/>
          <p:nvPr/>
        </p:nvSpPr>
        <p:spPr>
          <a:xfrm>
            <a:off x="2590920" y="3290760"/>
            <a:ext cx="228600" cy="381240"/>
          </a:xfrm>
          <a:prstGeom prst="lightningBolt">
            <a:avLst/>
          </a:prstGeom>
          <a:solidFill>
            <a:srgbClr val="ffcf01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15T11:45:39Z</dcterms:modified>
  <cp:revision>1195</cp:revision>
  <dc:subject/>
  <dc:title>Web Algorithmics</dc:title>
</cp:coreProperties>
</file>